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C6C-5649-4C09-AB15-5927B7EE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ACB-9ADF-41F5-A4A6-EB78E5A1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5D5-7E2A-4538-A1BE-D1CA6A30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27A-23D5-4A14-A2D7-2C3FBE8B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5FE3-AC59-4132-95C3-0DDAAA09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3EA3-A528-487C-97BF-6EA3E541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C44F-4F2B-446A-A519-9534A7E3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007A-7310-4550-9ABF-EE49676C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8234-CFA3-4051-8AA6-22D68631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3400-8E0A-41D8-9064-5956E297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FBFF-3201-4742-9737-3A402FBA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C80-F589-4CF5-98F8-010061AB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DC7B-1DE3-471F-8C5D-745AF629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CEC9-1CA3-4B72-BBFD-F168BA01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09E9-A8E7-4239-BCE9-A8A32DE7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AD6E-30D5-4027-A966-9431F7D3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B503-9237-475D-A9BE-380735AB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338-CC44-4EF1-ADDD-FCC4DB7F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58C-7D7E-47FD-B185-6DCD70E6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B66-3F25-4D53-838E-1E70BABB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114-CF0A-4680-8A62-55CE301A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DEF-FE2A-4561-89E4-3B8FC1A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C71-7FBA-466B-A510-F68060DD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3FD-FC91-4C41-9B55-3132E6E7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075E-9048-4630-BDE9-40AE3FE68A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0B8B-B73F-4881-9845-BBBDF34828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Satya Nal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RAM is an integral part of most So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Automate SRAM desig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ology-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-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7D0-2043-4B99-A253-E8D2451E5E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65760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RAM 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2590920"/>
            <a:ext cx="2057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hematic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5257800"/>
            <a:ext cx="2057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out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514600"/>
            <a:ext cx="2057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RAM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5029200"/>
            <a:ext cx="2057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RAM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579600" cy="663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1447920" y="281952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00400" y="289512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4520" y="3276720"/>
            <a:ext cx="8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96252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ignpa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343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495680"/>
            <a:ext cx="8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4419720"/>
            <a:ext cx="327672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905120"/>
            <a:ext cx="5105160" cy="4724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adence SK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1523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EF4-3027-403F-A978-DCC85F0922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AM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ba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 – 8-32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-mux – 1,2,4,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– 8-5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and #cols power of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block using en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/Layout script for tiling each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 script to generate final S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782800" cy="3733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56080" y="2887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1BC-A674-49B2-81CD-39F3620CFF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able leaf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0481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 Vias programmed in SKILL for decoder/WL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287960" cy="2001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362320"/>
            <a:ext cx="2286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5521320" cy="250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44920" y="5815080"/>
            <a:ext cx="30492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78440" y="5149800"/>
            <a:ext cx="30456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438280" y="2590920"/>
            <a:ext cx="2895840" cy="9144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05320"/>
            <a:ext cx="1676520" cy="16761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4724280"/>
            <a:ext cx="11430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54100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zed by SRAM optimiz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5638680"/>
            <a:ext cx="4038480" cy="0"/>
          </a:xfrm>
          <a:prstGeom prst="line">
            <a:avLst/>
          </a:prstGeom>
          <a:ln w="1908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873-F9E0-4821-B004-9D2D2C3740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uting by abut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74320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048120"/>
            <a:ext cx="76212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274320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3048120"/>
            <a:ext cx="76212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2971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ting taking care of internal to lea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f-cel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f-cel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95288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nal between two leaf cells – E.g. WL between WL Driver and Bit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38480" y="3200400"/>
            <a:ext cx="4572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124080" y="32004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DA1-9BED-4F5F-BD2C-A975261577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48040" y="2438280"/>
            <a:ext cx="1243080" cy="1792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309760" y="3352680"/>
            <a:ext cx="1114560" cy="174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62240" y="5257800"/>
            <a:ext cx="2249640" cy="1149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95360" y="19051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column circuitry layouts gener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76240" y="30081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ault, Col-mux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2855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4824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-mux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07240" y="5365800"/>
            <a:ext cx="152280" cy="152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043320" y="5486400"/>
            <a:ext cx="6094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082920" y="2971800"/>
            <a:ext cx="69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082920" y="3048120"/>
            <a:ext cx="6922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19440" y="2895480"/>
            <a:ext cx="16002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359-24E8-4077-BF78-1ED16DE2F4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schematic-generation scri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-cell layout scri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level layout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/Tes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 generation (FreePD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T-RAM (Anura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 + Layout generation (ST 6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-leakage cancelling SA (Sudhansh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-ended SA (Jo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1FB-73A4-446C-BB15-4A3799A137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ing leaf-cell layout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y-cell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 optimizer with SRAM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Write optimizer output to conf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human interven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improve user/technology-in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FE2-75F6-4241-A056-5927A3AAC2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0:24:43Z</dcterms:created>
  <dc:creator>uva</dc:creator>
  <dc:description/>
  <dc:language>en-US</dc:language>
  <cp:lastModifiedBy>uva</cp:lastModifiedBy>
  <dcterms:modified xsi:type="dcterms:W3CDTF">2010-04-21T23:16:38Z</dcterms:modified>
  <cp:revision>43</cp:revision>
  <dc:subject/>
  <dc:title>SRAM Generator</dc:title>
</cp:coreProperties>
</file>